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7E0-B5CF-43BA-B0C6-0380D3CB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E7A1-146F-4BE3-99E7-9501F547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FDE-DBAA-4BC9-B2F2-42F1B98A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B45B-9747-435E-94B7-594ADFA8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77C0-15E2-4CD5-8C39-6851B47F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FF89-4A9F-421F-843C-74B95EEA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06F9-2FD9-46B4-85B6-E9073C49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393E-E553-4DA2-9F3B-1ED51657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0378-023F-492F-986C-66549E88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F84B-DEAF-4038-9C49-4A0C20B5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6A7F-6D48-4015-8933-F6769993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390-1E2F-4F14-A0CA-E5680ACD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627E-76FA-440E-A851-4FB3185C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2AB0-C92F-4E41-A2F3-5EF2CC12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78C8-5A55-4629-989A-DF923AB3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5527-F388-48DE-9854-B5B58E3D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3886-4C8D-4F2D-B15C-C52A5E8D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3CF-CAF5-4FCC-96F0-E2A30A05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5E7-BB16-4512-8270-5514B995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A4A-33DC-413F-BE05-F6041636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961-0C04-42C7-86BA-B478A146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6E8-D8F8-4134-A18F-0B645EB2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48A-66EF-42D7-BECC-F352DDB4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B49-FAC9-4342-A8E2-D5213BDD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9518-C050-4BF7-94B2-632988C00C6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418A-D095-4157-AC97-5D4CD9324F5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ETODA BACKTRACKING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5120" y="4059000"/>
            <a:ext cx="586728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64000" y="17733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ws16</cp:lastModifiedBy>
  <dcterms:modified xsi:type="dcterms:W3CDTF">2012-06-19T11:04:52Z</dcterms:modified>
  <cp:revision>32</cp:revision>
  <dc:subject/>
  <dc:title>SALARIUL</dc:title>
</cp:coreProperties>
</file>